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251B73-27A6-43E9-B0F4-273806AEACB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slf4j bridge (log4j-over-slf4j.jar), and the jakarta commons logging (JCL) to SLF4J  bridge (jcl104-over-slf4j.jar), users who currently log  through the log4j or JCL APIs can keep their existing log  statements (without change).  The bridge will redirect the log4j calls to slf4j which will in turn delegate to another logging system such as  logback or  java.util.logging (JUL).</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CL? Peace of cake! Just place slf4j-jcl.jar in you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 class path. To bridge legacy log4j calls to SLF4J,  add log4j-over-slf4j.jar to your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log4j-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5CF4D5A1-BA94-4580-899A-C38ED09025A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A1F0EA5-A7B4-46D3-B082-33EEB918443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DC926216-D603-44E8-A425-8DBE32221B0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60C71071-C55B-4BDC-8F7D-661BFA31757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C3051CC-6D44-4C44-9CE1-87FF05E7343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2DE52F-7436-495C-9CB5-F98EE46791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70CB19-6CF3-4188-899D-2AB376DD50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F57872-7067-4356-BB74-3F7D8713A6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CF8027-FB6D-427B-810F-33AAB64560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5322B3D-3146-489C-BCD4-CE136A8C39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C3DAB3-56C3-4815-8AF8-EEBAA21796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11E5FA8-BF43-412B-A546-33A58F7DA65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62E199-3A71-49DE-8663-A3AA6F310F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D7F45E-8841-48EB-99E7-FC57BB02C3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FFBA3DE-539F-4828-84E9-6D31D14A0B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4A58EAA-A8DE-4283-A672-07C78E96B03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8F53924-74F9-44E3-9BDB-6C6661422CC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D15286F-C7FD-4A23-B59E-4C2AAC4D772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3E7B65B-5C77-4866-B520-5B7ABDF4430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C210216-FE56-469A-AB92-346311FCD00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545E362-209C-4D08-9A1F-2A5FD2E2B97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5FFA63A-2BEF-4685-84C6-85B9E3FDB92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827ED7E-A5AA-4394-B4C6-419BC30B6E1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A400E19-B921-4644-92BD-69674E778CD1}"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8EF9EF-71B3-48DE-A950-E5BBC0C31DE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C1A36E-E643-4887-880F-854F1C736AA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bugzilla.qos.ch/" TargetMode="External"/><Relationship Id="rId5" Type="http://schemas.openxmlformats.org/officeDocument/2006/relationships/hyperlink" Target="http://irc.freenode.net/#logback." TargetMode="External"/><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25661686-BFE9-495C-8F52-03F060B85A7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1"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58E18AD-AF3F-4562-9C47-5E7C17CBB12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3"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424AE8EE-84B6-446D-9A7D-F5B4D9753B0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5"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24D49026-CC3D-45AF-A8F1-EE74BA12D87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4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AE29066-FD88-422E-8C70-E8038ADFEE3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E6FCB4D-5FD4-478B-AD8A-EEFAA9CF343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1"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3CA3E0A-54EF-4B2D-AD9F-2B2F83F716F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08FDFC8-0814-4EFD-B741-53438C09496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5"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55AE2B5-7BCC-45F5-98F4-2B39B723A45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57"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1F1411F-4BF7-4107-A7BD-722F2D08E7C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9"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5ECEE441-3D5C-4E3D-899C-3ED0765269E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67B96508-7CD3-4585-B9DB-F8DF2F21191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1"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BCD2222B-9366-4C93-943B-7F1E8675784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3"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C30A423A-EBC8-4B54-90AC-E4DF3B22AF2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7E71ADE-8571-4913-B69D-C53F11CE191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6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04CE9A9-A2CD-4202-85FA-45DF2BFDFCC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982455A-6527-40A4-BBA6-FC2408222DC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54855CC-A05F-4B0C-BA86-BC524AF6417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3"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bugzill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a:t>
            </a:r>
            <a:r>
              <a:rPr b="0" lang="en-US" sz="3200" spc="-1" strike="noStrike" u="sng">
                <a:solidFill>
                  <a:srgbClr val="666699"/>
                </a:solidFill>
                <a:uFillTx/>
                <a:latin typeface="Arial"/>
                <a:hlinkClick r:id="rId5"/>
              </a:rPr>
              <a:t>irc.freenode.net#logback</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BC03759-D9A2-441B-ACE6-D093959A4F19}"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BED8EED0-53BA-42B6-ADF9-6D8EB0FA44B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094B0ED-F8AE-4483-BBC5-A0A19819D0F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8"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68C7ED2-DA4C-4763-945D-99BBFE2A203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grate all log4j and JCL calls (</a:t>
            </a:r>
            <a:r>
              <a:rPr b="0" lang="en-US" sz="3600" spc="-1" strike="noStrike">
                <a:solidFill>
                  <a:srgbClr val="000000"/>
                </a:solidFill>
                <a:latin typeface="Arial"/>
              </a:rPr>
              <a:t>without changing a single line of code)</a:t>
            </a:r>
            <a:endParaRPr b="0" lang="en-US" sz="3600" spc="-1" strike="noStrike">
              <a:solidFill>
                <a:srgbClr val="000000"/>
              </a:solidFill>
              <a:latin typeface="Arial"/>
            </a:endParaRPr>
          </a:p>
        </p:txBody>
      </p:sp>
      <p:graphicFrame>
        <p:nvGraphicFramePr>
          <p:cNvPr id="130" name=""/>
          <p:cNvGraphicFramePr/>
          <p:nvPr/>
        </p:nvGraphicFramePr>
        <p:xfrm>
          <a:off x="838080" y="2209680"/>
          <a:ext cx="7925040" cy="3364200"/>
        </p:xfrm>
        <a:graphic>
          <a:graphicData uri="http://schemas.openxmlformats.org/presentationml/2006/ole">
            <p:oleObj r:id="rId1" spid="">
              <p:embed/>
              <p:pic>
                <p:nvPicPr>
                  <p:cNvPr id="131" name="" descr=""/>
                  <p:cNvPicPr/>
                  <p:nvPr/>
                </p:nvPicPr>
                <p:blipFill>
                  <a:blip r:embed="rId2"/>
                  <a:stretch/>
                </p:blipFill>
                <p:spPr>
                  <a:xfrm>
                    <a:off x="838080" y="2209680"/>
                    <a:ext cx="7925040" cy="3364200"/>
                  </a:xfrm>
                  <a:prstGeom prst="rect">
                    <a:avLst/>
                  </a:prstGeom>
                  <a:ln w="0">
                    <a:noFill/>
                  </a:ln>
                </p:spPr>
              </p:pic>
            </p:oleObj>
          </a:graphicData>
        </a:graphic>
      </p:graphicFrame>
      <p:sp>
        <p:nvSpPr>
          <p:cNvPr id="3" name="PlaceHolder 2"/>
          <p:cNvSpPr>
            <a:spLocks noGrp="1"/>
          </p:cNvSpPr>
          <p:nvPr>
            <p:ph type="sldNum" idx="2"/>
          </p:nvPr>
        </p:nvSpPr>
        <p:spPr/>
        <p:txBody>
          <a:bodyPr/>
          <a:p>
            <a:fld id="{6F3E4664-A3B6-4518-BC9D-8A93FBA8B6B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3" name=""/>
          <p:cNvGraphicFramePr/>
          <p:nvPr/>
        </p:nvGraphicFramePr>
        <p:xfrm>
          <a:off x="914400" y="1905120"/>
          <a:ext cx="6935760" cy="3981240"/>
        </p:xfrm>
        <a:graphic>
          <a:graphicData uri="http://schemas.openxmlformats.org/presentationml/2006/ole">
            <p:oleObj r:id="rId1" spid="">
              <p:embed/>
              <p:pic>
                <p:nvPicPr>
                  <p:cNvPr id="134" name="" descr=""/>
                  <p:cNvPicPr/>
                  <p:nvPr/>
                </p:nvPicPr>
                <p:blipFill>
                  <a:blip r:embed="rId2"/>
                  <a:stretch/>
                </p:blipFill>
                <p:spPr>
                  <a:xfrm>
                    <a:off x="914400" y="1905120"/>
                    <a:ext cx="6935760" cy="3981240"/>
                  </a:xfrm>
                  <a:prstGeom prst="rect">
                    <a:avLst/>
                  </a:prstGeom>
                  <a:ln w="0">
                    <a:noFill/>
                  </a:ln>
                </p:spPr>
              </p:pic>
            </p:oleObj>
          </a:graphicData>
        </a:graphic>
      </p:graphicFrame>
      <p:sp>
        <p:nvSpPr>
          <p:cNvPr id="3" name="PlaceHolder 2"/>
          <p:cNvSpPr>
            <a:spLocks noGrp="1"/>
          </p:cNvSpPr>
          <p:nvPr>
            <p:ph type="sldNum" idx="2"/>
          </p:nvPr>
        </p:nvSpPr>
        <p:spPr/>
        <p:txBody>
          <a:bodyPr/>
          <a:p>
            <a:fld id="{E9967A43-7BB6-4386-8FF8-EC0CF34A28A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36" name=""/>
          <p:cNvGraphicFramePr/>
          <p:nvPr/>
        </p:nvGraphicFramePr>
        <p:xfrm>
          <a:off x="457200" y="2176560"/>
          <a:ext cx="8229600" cy="3494160"/>
        </p:xfrm>
        <a:graphic>
          <a:graphicData uri="http://schemas.openxmlformats.org/presentationml/2006/ole">
            <p:oleObj r:id="rId1" spid="">
              <p:embed/>
              <p:pic>
                <p:nvPicPr>
                  <p:cNvPr id="137"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F9C600CD-CE90-4CDA-B99C-215D49FAE01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39"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6960EC82-18D3-4E33-AFDA-090288712EA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6-12-02T17:15:16Z</dcterms:modified>
  <cp:revision>145</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