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10.wmf" ContentType="image/x-wmf"/>
  <Override PartName="/ppt/media/image7.png" ContentType="image/png"/>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3C3F04-D107-4E6D-81F6-5FC8D99D74A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9F0A0AC-DA88-4571-A95E-D3510096B48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7AB8B30-BFB4-4FAD-BC88-2BE9ACB1D44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FBAA769C-8473-4534-AC63-2EE9375B8F5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1C23C80-F429-4477-8DD8-9B82143BE80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E0F7F74-2C3C-4C6A-A0EE-47ADDC8025F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39EE08-8F46-429E-AC96-E8A7BF596A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F809AC-94D5-4CC4-8AF8-095EF22D7D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BFFEC5-969A-466F-9C9A-5E27350BFB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2B9708-27EE-4186-83CE-46E078E90F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46C901-B89B-4D56-BA4D-3013517A4A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97403F-9115-411D-B3AB-90734AEBB1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714D8FF-BDF4-421D-85DB-3ACCE25E875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2A3724-81E9-4FCB-BDAD-70880AFE17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2B0CEE-4DDC-43B5-AAC4-D5255912BE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78324B-3781-4771-BDAC-2AD69BF088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E43306E-ED32-46A3-B339-E55C109487F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0BC4342-1725-4D40-8CFC-738FA65AE15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8471CC5-3531-4C93-B6CE-A1DE01FB49B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DC65002-748B-4546-A9DD-846B686179B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020F387-81BD-4F56-96AF-8B4CCEFB287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513445C-0A0F-4AA9-8FB6-13304B8B39E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880B226-1699-4D06-987B-92C7FCEB1B9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B34D0E9-CF44-4F3D-9859-427025E9D29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0CE2CC4-73A6-4ACA-8BDE-BCCFFF328ADD}"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245218-2121-4BF5-A4FF-594CCA80218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D3AC45-447F-4E9D-BF2E-2B50F108F5B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hyperlink" Target="http://jira.qos.ch/" TargetMode="External"/><Relationship Id="rId6" Type="http://schemas.openxmlformats.org/officeDocument/2006/relationships/hyperlink" Target="http://jira.qos.ch/"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23E0E6CC-F26C-4E55-8795-5C29AE28D22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40" name=""/>
          <p:cNvGraphicFramePr/>
          <p:nvPr/>
        </p:nvGraphicFramePr>
        <p:xfrm>
          <a:off x="457200" y="2176560"/>
          <a:ext cx="8229600" cy="3494160"/>
        </p:xfrm>
        <a:graphic>
          <a:graphicData uri="http://schemas.openxmlformats.org/presentationml/2006/ole">
            <p:oleObj r:id="rId1" spid="">
              <p:embed/>
              <p:pic>
                <p:nvPicPr>
                  <p:cNvPr id="141"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4B17AA93-BD74-4E42-8CCD-791CB86B1E7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43"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DC634316-48E1-4135-9A9E-4F1771D5A12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5"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71DC019-B9B6-4B8A-9FEE-798C375B2ED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7"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4FDF1F32-299F-43FC-BA67-2259D9EFCEB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9"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92A3C487-D1E7-48C2-BEC2-9C54426AA69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5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670006E-BFAA-4586-9063-EDF7552F140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2934BF5-F403-49D5-BB8E-F34540C96AF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5"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5FAF0CA-5234-438C-BBB9-42C6AD5DDFC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2EC816E-561A-4236-B194-1A36F460610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9"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3AA5B99-7BD3-4A8F-891B-891106E7726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1E663D77-FF5E-4214-8F6D-9B02D3B8B9A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61"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E1ACFE6-71E6-418E-A737-64FD2A3EB5E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63"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2A370925-8A4F-45C4-B75B-2014BF3A2D7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5"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4053E2EC-F427-4AF6-8325-13F65535886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7"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550578B9-BBFC-4ADE-A35F-DFE102BF460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11AB874-B3D8-4C4E-9C04-BB64A801ECE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D3B0A26-8324-445A-8680-192498ECCCD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C62153D-1E19-4E40-9DAC-5DBA73ACEF5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67E747B-D7E9-48DA-B0FD-32426F5EAA9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7"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a:t>
            </a:r>
            <a:r>
              <a:rPr b="0" lang="en-US" sz="3200" spc="-1" strike="noStrike" u="sng">
                <a:solidFill>
                  <a:srgbClr val="666699"/>
                </a:solidFill>
                <a:uFillTx/>
                <a:latin typeface="Arial"/>
                <a:hlinkClick r:id="rId5"/>
              </a:rPr>
              <a:t>jira.qos.ch</a:t>
            </a:r>
            <a:r>
              <a:rPr b="0" lang="en-US" sz="3200" spc="-1" strike="noStrike" u="sng">
                <a:solidFill>
                  <a:srgbClr val="666699"/>
                </a:solidFill>
                <a:uFillTx/>
                <a:latin typeface="Arial"/>
                <a:hlinkClick r:id="rId6"/>
              </a:rPr>
              <a: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B33FBC3-A076-470D-92C2-D844451B2F10}"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73D9ACBF-F1B5-47CD-8D1D-A5228E1E8FE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51BC771-8404-4F0D-BC49-B6F51B22107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LF4J in one slide</a:t>
            </a:r>
            <a:endParaRPr b="0" lang="en-US" sz="4400" spc="-1" strike="noStrike">
              <a:solidFill>
                <a:srgbClr val="000000"/>
              </a:solidFill>
              <a:latin typeface="Arial"/>
            </a:endParaRPr>
          </a:p>
        </p:txBody>
      </p:sp>
      <p:pic>
        <p:nvPicPr>
          <p:cNvPr id="128" name="" descr=""/>
          <p:cNvPicPr/>
          <p:nvPr/>
        </p:nvPicPr>
        <p:blipFill>
          <a:blip r:embed="rId1"/>
          <a:stretch/>
        </p:blipFill>
        <p:spPr>
          <a:xfrm>
            <a:off x="3276720" y="1066680"/>
            <a:ext cx="4998960" cy="5334120"/>
          </a:xfrm>
          <a:prstGeom prst="rect">
            <a:avLst/>
          </a:prstGeom>
          <a:ln w="0">
            <a:noFill/>
          </a:ln>
        </p:spPr>
      </p:pic>
      <p:sp>
        <p:nvSpPr>
          <p:cNvPr id="3" name="PlaceHolder 2"/>
          <p:cNvSpPr>
            <a:spLocks noGrp="1"/>
          </p:cNvSpPr>
          <p:nvPr>
            <p:ph type="sldNum" idx="2"/>
          </p:nvPr>
        </p:nvSpPr>
        <p:spPr/>
        <p:txBody>
          <a:bodyPr/>
          <a:p>
            <a:fld id="{19CA75A7-CD4F-4FBA-86E5-D6F2EFD4FC8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30"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jul, log4j and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A5174BB-61F7-4F1A-A9CA-E9F7D12576C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grate all jul, log4j and JCL calls (without changing a single line of code)</a:t>
            </a:r>
            <a:endParaRPr b="0" lang="en-US" sz="3200" spc="-1" strike="noStrike">
              <a:solidFill>
                <a:srgbClr val="000000"/>
              </a:solidFill>
              <a:latin typeface="Arial"/>
            </a:endParaRPr>
          </a:p>
        </p:txBody>
      </p:sp>
      <p:pic>
        <p:nvPicPr>
          <p:cNvPr id="132" name="" descr=""/>
          <p:cNvPicPr/>
          <p:nvPr/>
        </p:nvPicPr>
        <p:blipFill>
          <a:blip r:embed="rId1"/>
          <a:stretch/>
        </p:blipFill>
        <p:spPr>
          <a:xfrm>
            <a:off x="609480" y="1905120"/>
            <a:ext cx="7543800" cy="4359240"/>
          </a:xfrm>
          <a:prstGeom prst="rect">
            <a:avLst/>
          </a:prstGeom>
          <a:ln w="0">
            <a:noFill/>
          </a:ln>
        </p:spPr>
      </p:pic>
      <p:sp>
        <p:nvSpPr>
          <p:cNvPr id="3" name="PlaceHolder 2"/>
          <p:cNvSpPr>
            <a:spLocks noGrp="1"/>
          </p:cNvSpPr>
          <p:nvPr>
            <p:ph type="sldNum" idx="2"/>
          </p:nvPr>
        </p:nvSpPr>
        <p:spPr/>
        <p:txBody>
          <a:bodyPr/>
          <a:p>
            <a:fld id="{F575F7BA-2FF7-48DB-A44D-67247B6FFC4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533520"/>
            <a:ext cx="76960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 better, faster, smaller.</a:t>
            </a:r>
            <a:endParaRPr b="0" lang="en-US" sz="4000" spc="-1" strike="noStrike">
              <a:solidFill>
                <a:srgbClr val="000000"/>
              </a:solidFill>
              <a:latin typeface="Arial"/>
            </a:endParaRPr>
          </a:p>
        </p:txBody>
      </p:sp>
      <p:graphicFrame>
        <p:nvGraphicFramePr>
          <p:cNvPr id="134" name=""/>
          <p:cNvGraphicFramePr/>
          <p:nvPr/>
        </p:nvGraphicFramePr>
        <p:xfrm>
          <a:off x="380880" y="1905120"/>
          <a:ext cx="8293320" cy="3519360"/>
        </p:xfrm>
        <a:graphic>
          <a:graphicData uri="http://schemas.openxmlformats.org/presentationml/2006/ole">
            <p:oleObj r:id="rId1" spid="">
              <p:embed/>
              <p:pic>
                <p:nvPicPr>
                  <p:cNvPr id="135" name="" descr=""/>
                  <p:cNvPicPr/>
                  <p:nvPr/>
                </p:nvPicPr>
                <p:blipFill>
                  <a:blip r:embed="rId2"/>
                  <a:stretch/>
                </p:blipFill>
                <p:spPr>
                  <a:xfrm>
                    <a:off x="380880" y="1905120"/>
                    <a:ext cx="8293320" cy="3519360"/>
                  </a:xfrm>
                  <a:prstGeom prst="rect">
                    <a:avLst/>
                  </a:prstGeom>
                  <a:ln w="0">
                    <a:noFill/>
                  </a:ln>
                </p:spPr>
              </p:pic>
            </p:oleObj>
          </a:graphicData>
        </a:graphic>
      </p:graphicFrame>
      <p:sp>
        <p:nvSpPr>
          <p:cNvPr id="3" name="PlaceHolder 2"/>
          <p:cNvSpPr>
            <a:spLocks noGrp="1"/>
          </p:cNvSpPr>
          <p:nvPr>
            <p:ph type="sldNum" idx="2"/>
          </p:nvPr>
        </p:nvSpPr>
        <p:spPr/>
        <p:txBody>
          <a:bodyPr/>
          <a:p>
            <a:fld id="{773C9BFE-B289-4224-9851-A82CFF7F7B3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7" name=""/>
          <p:cNvGraphicFramePr/>
          <p:nvPr/>
        </p:nvGraphicFramePr>
        <p:xfrm>
          <a:off x="457200" y="2055960"/>
          <a:ext cx="8229600" cy="3736800"/>
        </p:xfrm>
        <a:graphic>
          <a:graphicData uri="http://schemas.openxmlformats.org/presentationml/2006/ole">
            <p:oleObj r:id="rId1" spid="">
              <p:embed/>
              <p:pic>
                <p:nvPicPr>
                  <p:cNvPr id="138"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33B4E6B2-5331-4C2E-89D2-518B9ECEB39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6-03T15:45:49Z</dcterms:modified>
  <cp:revision>163</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