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47D920-AF8D-4495-AAD5-B9E55BBC17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slf4j bridge (log4j-over-slf4j.jar), and the jakarta commons logging (JCL) to SLF4J  bridge (jcl104-over-slf4j.jar), users who currently log  through the log4j or JCL APIs can keep their existing log  statements (without change).  The bridge will redirect the log4j calls to slf4j which will in turn delegate to another logging system such as  logback or  java.util.logging (JU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CL? Peace of cake! Just place slf4j-jcl.jar in you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class path. To bridge legacy log4j calls to SLF4J,  add log4j-over-slf4j.jar to your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log4j-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A113C48-DD0D-45DC-BC47-0B803827554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B9EBA90-70D2-4F84-9D21-68BE645E0E0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8EF595C-09DB-42E6-B897-41E9F0E79D1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F243FB5-BB5E-4604-BFAC-9529B2822A5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3B5B5D1-9C9E-4721-B50B-BC3F126BA61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A7627D-91EC-4207-B33C-E11C1E70BB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453726-A822-4381-B9F4-EB94799218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52C4AF-4C43-4808-ADF8-00F89DE778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32872B-EE33-4023-A0D5-CF510454FF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98B825-96D0-4AAC-A9B0-6D1894D159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D940DE-B27E-4E65-B639-A8842F03B9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A4989CA-70F9-475B-9572-69353D25B01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3BA273-758A-4E10-A72F-C18D77C40A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A4EB1D-6AEA-4D0F-B453-94C3561105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FCC93F-20F4-4456-9A14-9C522F960A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05EDF4E-D841-40FF-90BD-20657E62167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774C472-1636-46E6-B66C-B8F3A01EA6D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2CDFEE1-F3CE-4917-B410-A7210218590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7B2C4B6-CE45-4F28-8F9D-3D6924A32EA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5933EEF-6222-41E5-9EDB-18AA09130DA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16F8D27-FEE6-45FC-90C7-4A068D881EC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74A98B4-47F6-4E2D-B888-A358221E2C3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CEA8C4A-A7B8-45AD-9869-425B8D72EBB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FC1E67A-3DE6-461E-B4EC-4F16C5C6B872}"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40EFEF-F879-444C-AFB8-A61AC9258BD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AF14F9-1AAE-4D34-8F60-683D83B4253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irc.freenode.net/#logback."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DEFDE97E-A61A-4F8A-86A8-157D450F963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8969F48-9ACD-4C82-A6DB-F25F408523A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457CA370-93E0-48BF-80E5-758F992D8C3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D0E7EFF1-77C2-452C-927E-55D88E6E291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E85EFB9-27D3-4EA8-AF06-791A8753524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FC48ED4-4A71-4F24-A94B-4039DC5CE12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93870A1-C380-4A11-818E-F14AA7F010E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A2EB0AE-18AB-4B49-A906-D05DE38609B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FCC488F-BE4A-4F42-B9D8-B268915D71A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A0589FE-3168-4BAB-8898-500786BF6B4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28553E61-42FD-4BBF-8F47-60CD169C4F4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B7681D56-274F-4940-8B09-DEA08B9851E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51929D29-5117-4711-BB30-18B79B1323C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0B72D36B-4146-4EFA-9EF5-5042CA37B00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27457A8-3131-48BB-81D0-6A21790A0A8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66DC98E-17D6-4476-B8EB-EFDC0708185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355E10C-7D33-4CF5-B4A1-4140A064335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3EE88DE-E24C-49E9-ABC4-DF4287B048D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bugzill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a:t>
            </a:r>
            <a:r>
              <a:rPr b="0" lang="en-US" sz="3200" spc="-1" strike="noStrike" u="sng">
                <a:solidFill>
                  <a:srgbClr val="666699"/>
                </a:solidFill>
                <a:uFillTx/>
                <a:latin typeface="Arial"/>
                <a:hlinkClick r:id="rId5"/>
              </a:rPr>
              <a:t>irc.freenode.net#logback</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7B95621-3638-4F32-AD59-916C92CC7D59}"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A2564F2B-6C57-4C57-BB12-807EF4A05F0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2DFA47B-58B3-4814-B1EC-9A291668869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8"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4A3B404-3100-4E9C-AA39-F9ABA496C61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30" name=""/>
          <p:cNvGraphicFramePr/>
          <p:nvPr/>
        </p:nvGraphicFramePr>
        <p:xfrm>
          <a:off x="838080" y="2209680"/>
          <a:ext cx="7925040" cy="3364200"/>
        </p:xfrm>
        <a:graphic>
          <a:graphicData uri="http://schemas.openxmlformats.org/presentationml/2006/ole">
            <p:oleObj r:id="rId1" spid="">
              <p:embed/>
              <p:pic>
                <p:nvPicPr>
                  <p:cNvPr id="131" name="" descr=""/>
                  <p:cNvPicPr/>
                  <p:nvPr/>
                </p:nvPicPr>
                <p:blipFill>
                  <a:blip r:embed="rId2"/>
                  <a:stretch/>
                </p:blipFill>
                <p:spPr>
                  <a:xfrm>
                    <a:off x="838080" y="2209680"/>
                    <a:ext cx="7925040" cy="3364200"/>
                  </a:xfrm>
                  <a:prstGeom prst="rect">
                    <a:avLst/>
                  </a:prstGeom>
                  <a:ln w="0">
                    <a:noFill/>
                  </a:ln>
                </p:spPr>
              </p:pic>
            </p:oleObj>
          </a:graphicData>
        </a:graphic>
      </p:graphicFrame>
      <p:sp>
        <p:nvSpPr>
          <p:cNvPr id="3" name="PlaceHolder 2"/>
          <p:cNvSpPr>
            <a:spLocks noGrp="1"/>
          </p:cNvSpPr>
          <p:nvPr>
            <p:ph type="sldNum" idx="2"/>
          </p:nvPr>
        </p:nvSpPr>
        <p:spPr/>
        <p:txBody>
          <a:bodyPr/>
          <a:p>
            <a:fld id="{90EDA835-446D-4DCF-B6C8-5ADACF1DD79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3" name=""/>
          <p:cNvGraphicFramePr/>
          <p:nvPr/>
        </p:nvGraphicFramePr>
        <p:xfrm>
          <a:off x="914400" y="1905120"/>
          <a:ext cx="6935760" cy="3981240"/>
        </p:xfrm>
        <a:graphic>
          <a:graphicData uri="http://schemas.openxmlformats.org/presentationml/2006/ole">
            <p:oleObj r:id="rId1" spid="">
              <p:embed/>
              <p:pic>
                <p:nvPicPr>
                  <p:cNvPr id="134" name="" descr=""/>
                  <p:cNvPicPr/>
                  <p:nvPr/>
                </p:nvPicPr>
                <p:blipFill>
                  <a:blip r:embed="rId2"/>
                  <a:stretch/>
                </p:blipFill>
                <p:spPr>
                  <a:xfrm>
                    <a:off x="914400" y="1905120"/>
                    <a:ext cx="6935760" cy="3981240"/>
                  </a:xfrm>
                  <a:prstGeom prst="rect">
                    <a:avLst/>
                  </a:prstGeom>
                  <a:ln w="0">
                    <a:noFill/>
                  </a:ln>
                </p:spPr>
              </p:pic>
            </p:oleObj>
          </a:graphicData>
        </a:graphic>
      </p:graphicFrame>
      <p:sp>
        <p:nvSpPr>
          <p:cNvPr id="3" name="PlaceHolder 2"/>
          <p:cNvSpPr>
            <a:spLocks noGrp="1"/>
          </p:cNvSpPr>
          <p:nvPr>
            <p:ph type="sldNum" idx="2"/>
          </p:nvPr>
        </p:nvSpPr>
        <p:spPr/>
        <p:txBody>
          <a:bodyPr/>
          <a:p>
            <a:fld id="{C4ADEF65-9874-4F91-B60D-7ABC637AB04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6" name=""/>
          <p:cNvGraphicFramePr/>
          <p:nvPr/>
        </p:nvGraphicFramePr>
        <p:xfrm>
          <a:off x="457200" y="2176560"/>
          <a:ext cx="8229600" cy="3494160"/>
        </p:xfrm>
        <a:graphic>
          <a:graphicData uri="http://schemas.openxmlformats.org/presentationml/2006/ole">
            <p:oleObj r:id="rId1" spid="">
              <p:embed/>
              <p:pic>
                <p:nvPicPr>
                  <p:cNvPr id="137"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E24CDCA7-641B-43EB-9DC6-4644D46562E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FF9218AD-8A7F-4FE5-8094-1D1CC4C419E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6-12-02T17:15:16Z</dcterms:modified>
  <cp:revision>145</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