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3FEF3-C904-47D9-9C8D-EBA3D9130F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mentioned previously, we've used Joran (part of logback-core) to implement a monitoring framework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needed to recreate sophisticated test object anew each time we needed to perform a verification. Joran's unique capability of selectively replaying parts of a configuration was a perfect matc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modules cannot log because it has no notion of a "logger"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gers are defined in logback-class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short, a Status object contains a message, an origin, and a level. Moreover, a Status ob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 have children, which may have children of their ow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ffective level of a Status is equal to highest level of either itself or in any one of its childr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t any depth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that the Status API is generic and can be used projects other than logba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jouter une classe XYAppender, ajouter la config nécessaire dans logback-YY.xml et montrer que la config est faite toute seule, sans modifier quoi que se so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onfiguration: configurer un fichier xml avec une erreur (pas de TriggeringPolicy dans un RollingFileAppender) et montrer l'effet des status objects et le lien 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 page codes.html. Logback se manifeste lorsqu'il y a une erreur et fourni une piste à suivre pour la résoud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onsider code ready for distribution only after it is properly documented, which is the main reason why logback carries a 0.x version stamp instead of 1.x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should we dem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_EXCEPTION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JMX coun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aste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ertain critical operations, for instance determining whether a log statement should be logged or not, has been significantly improved. This operation takes about 3 nanoseconds in logback versus 30 nanoseconds in log4j. Logback also creates loggers faster : 13 microseconds instead versus 23 microseconds for log4j. More importantly, it fetches an existing logger in 94 nanoseconds versus 2234 nanoseconds for log4j, a 23 fold improvement. The improvement over JUL is also far from insignifica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malle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Each logger instance uses up about 40 bytes of memory version 160 bytes for log4j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re bang for the buck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Logback does a better job of presenting logs, has much improved filtering and evaluation capability. In short, it does everything that log4j does and more, but bet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ary to log4j, where we wrote many regression tests, in logback, we have learned our lesson well. We write many more unit tests and fewer integration tes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modules forms the foundation upon which the other two modules are built. Interestingly enough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has no notion of such a thing as a logger. We have recently built a monitoring framework on top of just logback-core (without logback classic or acces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lassic relies on logback-core for basic services. It natively implements the SLF4J AP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access integrates with servlet containers. Thus, the capabilities of a fully-fledged logging system becomes available in any servlet contain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e are working on an log4j-slf4j bridge, similar to the existing jakarta commons logg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JCL) to SLF4J  bridge. Users who currently log  through the log4j API can keep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ir existing log  statements (without change).  The bridge will redirect the log4j calls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which will in turn delegate to another   logging  system   such   as  logback   or   log4j  or   ev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va.util.logging (JUL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aphically, this can be represented a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log4j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        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 &gt;---+---&gt; SLF4J --&gt;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w, if you don't like logback and prefer JUL, you can do the following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log4j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&gt;---+---&gt; SLF4J --+-&gt; JU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            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             ^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UL  calls         &gt;--------------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f you would prefer to stick with log4j, you ca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&gt;---+---&gt; SLF4J --+-&gt; log4j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            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             ^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g4j calls &gt;---------------------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e that  in the  above diagrams, there  are no direct  logback cal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ecause normally  one goes  through SLF4J to  log with logback.  It 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ctually  a little  less convenient  to log  directly  through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tead   of   (indirectly)   with   SLF4J.  For   example,   logback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cumentation  always uses SLF4J.  (There are  no examples  in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cs that use logback directly.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 other words, SLF4J acts as a universal logging API bridging betwe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various logging systems. Logback  is designed to support SLF4J AP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om the st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f you to delegate all logging to JCL? Peace of cake! Just place slf4j-jcl.jar in you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’s class path. To bridge legacy log4j calls to SLF4J,  add log4j-over-slf4j.jar to your class p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prefer to stick with log4j as your underlying logging system? No proble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st place slf4j-log4j12.jar in your application’s class path. To bridge JCL call’s to SLF4J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log4j-over-slf4j.jar in your app’s class p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xample with MultiFileAppender might be interes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.q.l is an abbreviation of  ch.qos.logb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.q.l.c.r stands for ch.qos.logback.core.rol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D12939-EF9F-45FC-9CC2-6296A1598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C11819-ADB5-4E4A-A438-0F986CB7D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0F07BD-9EF6-4398-9B07-0347874B3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F9F220-FB32-414D-8495-35B29E94E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2CFF9-8FB0-4B58-AAE9-2055D5DD6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F1442-50C6-4042-AD94-60181BA01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44303-7B0A-4DE8-9FDC-61790376B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E11BA-0CAE-4D26-9413-07E793261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BB1A1-141E-454A-8120-1ED69B929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DA293-202E-45F6-9420-8FFD741E7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9FF6C-3083-44DA-B41F-95244D25B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29D299-0BA1-468C-88B5-203CE06C7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C4F80-C0F8-4D96-8664-833DD0501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02162-4633-4654-BBC9-4C1639A79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89FC4-FAF9-43EE-9A09-8231D9075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3D432-F4F6-4FA7-BA5E-884CFCD2D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586B6-F5DC-4E1A-8083-93CAE2FD0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D57D2B-52FC-4379-9ABE-6D4F2459D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935030-3530-45F4-9935-D284F6362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A954FA-FE52-4353-AA62-1661E7A8D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715757-91A2-4FAF-AAAE-A81152AC5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E6C5A0-1A41-4532-BCF0-527F757DF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B039C1-0023-4E18-8C8F-575FDBCC3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B3D10B-7255-4225-A0A7-8EB10E822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QOS.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2D208-86C6-4F32-B99F-6F4D4AD5804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/>
          <p:cNvPicPr/>
          <p:nvPr/>
        </p:nvPicPr>
        <p:blipFill>
          <a:blip r:embed="rId2"/>
          <a:stretch/>
        </p:blipFill>
        <p:spPr>
          <a:xfrm>
            <a:off x="7391520" y="0"/>
            <a:ext cx="1752480" cy="942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0" y="990720"/>
            <a:ext cx="7848360" cy="4572000"/>
            <a:chOff x="0" y="990720"/>
            <a:chExt cx="7848360" cy="4572000"/>
          </a:xfrm>
        </p:grpSpPr>
        <p:sp>
          <p:nvSpPr>
            <p:cNvPr id="53" name=""/>
            <p:cNvSpPr/>
            <p:nvPr/>
          </p:nvSpPr>
          <p:spPr>
            <a:xfrm>
              <a:off x="0" y="990720"/>
              <a:ext cx="3008520" cy="4572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472760" y="2117520"/>
              <a:ext cx="6375600" cy="168912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0" y="1701720"/>
              <a:ext cx="2460240" cy="2104920"/>
              <a:chOff x="0" y="1701720"/>
              <a:chExt cx="2460240" cy="2104920"/>
            </a:xfrm>
          </p:grpSpPr>
          <p:sp>
            <p:nvSpPr>
              <p:cNvPr id="56" name=""/>
              <p:cNvSpPr/>
              <p:nvPr/>
            </p:nvSpPr>
            <p:spPr>
              <a:xfrm>
                <a:off x="491760" y="3379320"/>
                <a:ext cx="494640" cy="4273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472760" y="2117520"/>
                <a:ext cx="492840" cy="428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957680" y="1701720"/>
                <a:ext cx="502560" cy="4233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979560" y="3379320"/>
                <a:ext cx="501120" cy="4273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957680" y="2117520"/>
                <a:ext cx="502560" cy="428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979560" y="2539800"/>
                <a:ext cx="501120" cy="42192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39800"/>
                <a:ext cx="499680" cy="4219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472760" y="2539800"/>
                <a:ext cx="492840" cy="4219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491760" y="2955960"/>
                <a:ext cx="494640" cy="42948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979560" y="2955960"/>
                <a:ext cx="501120" cy="42948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QOS.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93C2B-0C03-43B0-9C4E-63640DCE712B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title"/>
          </p:nvPr>
        </p:nvSpPr>
        <p:spPr>
          <a:xfrm>
            <a:off x="2590560" y="1828800"/>
            <a:ext cx="60195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2095560" cy="6094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6667560" y="0"/>
            <a:ext cx="2476440" cy="133344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logback.qos.ch/" TargetMode="External"/><Relationship Id="rId2" Type="http://schemas.openxmlformats.org/officeDocument/2006/relationships/hyperlink" Target="http://svn.qos.ch/" TargetMode="External"/><Relationship Id="rId3" Type="http://schemas.openxmlformats.org/officeDocument/2006/relationships/hyperlink" Target="mailto:logback-user@qos.ch" TargetMode="External"/><Relationship Id="rId4" Type="http://schemas.openxmlformats.org/officeDocument/2006/relationships/hyperlink" Target="http://bugzilla.qos.ch/" TargetMode="External"/><Relationship Id="rId5" Type="http://schemas.openxmlformats.org/officeDocument/2006/relationships/hyperlink" Target="http://bugzilla.qos.ch/" TargetMode="External"/><Relationship Id="rId6" Type="http://schemas.openxmlformats.org/officeDocument/2006/relationships/hyperlink" Target="http://bugzilla.qos.ch/" TargetMode="External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90560" y="1828800"/>
            <a:ext cx="60195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10 reasons to use logback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OUGH DRAF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990720" y="4191120"/>
            <a:ext cx="71625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eki Gülcü &amp; Sébastien Pennec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other examp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 name="test1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eriod&gt;300&lt;/perio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!-- we need to configure a totally new tes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ect for each run of the test --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test class="com.wombat.myTest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DataSource class="c.w.JNDIDS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url&gt;jndi://com.wombat/ds"&lt;/ur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DataSourc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tes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 name="test2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eriod&gt;60&lt;/perio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 class="com.wombat.myTest2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file&gt;c:/wombat/foo.properties&lt;/fil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tes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testShel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ltiFileAppen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nal error repor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ore module cannot log to report its own st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thing more generic is nee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us AP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erfac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Status 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INFO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WAR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ERRO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getLeve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getEffectiveLeve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bject getOrigi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getMessag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rowable getThrowabl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hasChildre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add(Status chil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remove(Status chil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Iterator&lt;Status&gt; iterator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rrors in 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jor area of eff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rt Introdu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manual (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hort introduction to access logging with logback-access and Jet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ntroduction to Jor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vadoc, FAQ, error codes,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ltering and eval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rkers for specialized hand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oring for highly-specialized processing of log stat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ss Log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s well with Jetty and Tomc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M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components can be configured using JM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1920" y="762120"/>
            <a:ext cx="7696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~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880" y="20570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e basic plumbing only done bett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revolution, only evolu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er, smaller, higher gas mileage, and generally more bang for the bu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666880" y="838080"/>
            <a:ext cx="1524240" cy="10242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533520" y="914400"/>
            <a:ext cx="1676160" cy="90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ed &amp; Rea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ttery of over 200 unit t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s written concomitantly with the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is here and ready for use in produ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dds and e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llingFileAppender automatic file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TPAppender subject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 fold improvement in the speed of transporting logging events over the w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ger name abbreviation algorith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the docs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http://logback.qos.ch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y the code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http://svn.qos.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to us at 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logback-user@qos.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e a bug report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http://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bugzilla.qos.ch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6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lk to us at +41 21 312 32 2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ular archite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lass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a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gback-classic speaks SLF4J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(as mother tongu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F4J can delegate to log4j, logback, java.util.logging or JCL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F4J can bridge log4j and JCL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offers a native implementation of the SLF4J AP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exposes its logging API through SLF4J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grate all log4j and JCL calls (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ithout changing a single line of cod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838080" y="2209680"/>
          <a:ext cx="7925040" cy="336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209680"/>
                    <a:ext cx="7925040" cy="33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 you prefer JU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914400" y="1905120"/>
          <a:ext cx="6935760" cy="39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905120"/>
                    <a:ext cx="6935760" cy="39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g4j first, log4j for ev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685800" y="2209680"/>
          <a:ext cx="7683480" cy="32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209680"/>
                    <a:ext cx="768348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oran: a bowl of fresh a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n rules (patterns &amp; actions) it can configure any obj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generic (can be used in your projec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ran can learn new rules on the f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its implicit rules, you don’t even have to write your own rul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can do partial repl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figuration examp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2280" y="1295280"/>
            <a:ext cx="9601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configurati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ppender name="FILE"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="c.q.l.c.r.RollingFileAppender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rollingPoli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="c.q.l.c.r.TimeBasedRollingPolicy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ctiveFileName&gt;access.log"&lt;/ActiveFileNam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FileNamePattern&gt;access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%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log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zi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FileNamePatter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rollingPolic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layout class="c.q.l.access.PatternLayout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attern"&gt;combined&lt;/Pattern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layou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appender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ppender-ref ref="FILE" 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configurati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7T21:33:38Z</dcterms:created>
  <dc:creator>Ceki </dc:creator>
  <dc:description/>
  <dc:language>en-US</dc:language>
  <cp:lastModifiedBy>Ceki Gülcü</cp:lastModifiedBy>
  <dcterms:modified xsi:type="dcterms:W3CDTF">2006-10-24T06:06:54Z</dcterms:modified>
  <cp:revision>92</cp:revision>
  <dc:subject>*Unrestricted*</dc:subject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Without Tagging">
    <vt:lpwstr>1</vt:lpwstr>
  </property>
</Properties>
</file>