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5415-9C4C-4965-827C-AB5513F28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85A68-ABE7-4C9A-ACCA-444179FE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25946-42B1-4743-B240-C31BD407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89ECD-5FE2-47E8-ABA9-902A470B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65CC8-8CFB-4B87-ACEB-814EA0D3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2D76-16CE-4F30-B05A-15D649E62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0380-4CA1-402B-A58E-39D57EBE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719B-4F43-4EDA-9111-AE79678C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D3AE-8391-45E2-844C-8600EABB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5ED3-1CEC-4A87-AF54-6471C8A6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61FE-FFBD-472B-9F81-1E171D70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89D1-45CD-4127-BED1-79E26E0D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C9176-02C0-49CA-9F81-E03A7667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47F0-5344-4C50-BE7A-F95D7ED9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B763-D0B8-4F77-9E34-666497D5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CE9B-D19C-40BF-9BF2-22CCF290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5782-116B-458B-A290-D5F8C755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2DFC-D044-432D-A3D5-271DFEDD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16B6A-652A-4F43-AE29-08FC1D71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5E801-16DB-4B19-8C31-1AFCDFC5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F9813-38F6-428D-BFAD-DCB26762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CEE63-9ED4-423C-8364-ABCD2D51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C6169-733C-4648-9297-E05F045C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982FA-DF50-4AB5-A7FF-52F00CF8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FD7F1-F448-4E6E-BB16-8C8FDACC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4147-81E2-4554-953D-352B66514E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(DRAFT)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back ~ log4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zip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 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rate all log4j and JCL calls to logback without changing a single line of co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, if you don't like logback and prefer JUL, you do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ould prefer to stick with log4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</cp:lastModifiedBy>
  <dcterms:modified xsi:type="dcterms:W3CDTF">2006-10-21T16:25:34Z</dcterms:modified>
  <cp:revision>86</cp:revision>
  <dc:subject/>
  <dc:title>Slide 1</dc:title>
</cp:coreProperties>
</file>