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B5671-1630-457A-B0AA-F4F1E501B6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A0E9CE4-DE18-4745-B5DB-2CD61F9E87A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A7C7FD2-B3F2-4B9C-B3C7-C3B4A5F02F1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70AAB62-2312-4CFC-A50A-45C425B2147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3D881E3-A96B-4234-9F0F-DE6C4B30D40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5328CA4-843F-4D5B-B6C2-24272143DD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638881-7923-41A9-A638-811E3B73E9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D98ABC-0CF1-4CB4-857A-7DEFEE0AB7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A27002-AA2C-4FE7-BFB1-A0DF724E74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A5E850-1AEB-484C-B693-DE09769D90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548FF3-9945-4687-92CB-7C583C8777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F6A88A-F92C-4B96-941A-5C62F643D4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D7AD22F-1C2B-4DC7-B1E3-34DBA718742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8B3A96-7461-406F-926E-173C51E58D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4C6517-CFE4-4A3F-ABFA-E968156ACF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0D3A24-4322-4CFC-9AED-AA6EB3474C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24F9FC-F7C4-47AF-B8A1-9322D49345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B1DEA4-3BEE-48A0-AEC9-5E2509CF95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4B8541B-E1B5-430B-823D-99E6644ABF2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15A8B66-BFFD-4BDB-890B-A3CB7D00FD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0BC59DD-9F49-439E-9589-3371A3F9D51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4C467CD-218A-451D-88BC-72F97B59AD8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B2F9536-C8A9-448F-AD03-B8B578AF30F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3FD5DF9-9D4A-4228-A9B1-379BEDE5186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A0A6F9A-4EDF-4483-AD19-98FCC554B446}"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505E1-C442-4881-8CD8-C3B69C8D687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50E60-98D3-49A0-8845-2D33A7C605D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C5919197-0EAD-43CF-BE99-5CCA14F319A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72FC8FD-3EB5-405D-B7F7-830DAC1C1DE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023A113-339F-4EB7-B605-37E8C4F372C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F5408AB-47E9-475A-95D3-1B85CB21E4C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B8CE053-E1BF-4E16-9DA0-A0C0629C6AD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47746AD-9E9D-4384-93A1-5625BEAAD19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68E2A8E-8237-4CE8-A675-8C8458824EC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CC59D69-BDEB-4853-962E-1EBDB734357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B30BB12-9005-43FB-959C-96E3E1B64A5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B33BCF6-2FFA-4930-ADA5-38727F64C65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39495DE-D183-4598-B406-333C65E5F96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78D95488-36E8-4ED6-A42B-4435D122B54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A3DE5A6-D7FF-485C-B800-A04C72D1261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A6921E9-2BAF-4ED4-B417-92EF2CA334C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11C3D95-8EFE-440F-B7B5-8835790A8C8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64E1EAD-EC7F-4EA1-A868-F135F3DE67A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BB6E45F-3714-4E98-9306-DB64C042DED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5DC1453-339D-44FA-9F35-081BD8D1E9B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EFB19B3-BAD2-4139-ADB6-0AF33D7EA1F0}"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4D5B5C98-0490-4992-8578-2B4D7BC810F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6A73B4E-315D-444F-9C19-0F8B4559C81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4CDE70C-D715-4BB8-A30D-B25843265A5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838080" y="2209680"/>
          <a:ext cx="7925040" cy="3364200"/>
        </p:xfrm>
        <a:graphic>
          <a:graphicData uri="http://schemas.openxmlformats.org/presentationml/2006/ole">
            <p:oleObj r:id="rId1" spid="">
              <p:embed/>
              <p:pic>
                <p:nvPicPr>
                  <p:cNvPr id="131" name="" descr=""/>
                  <p:cNvPicPr/>
                  <p:nvPr/>
                </p:nvPicPr>
                <p:blipFill>
                  <a:blip r:embed="rId2"/>
                  <a:stretch/>
                </p:blipFill>
                <p:spPr>
                  <a:xfrm>
                    <a:off x="838080" y="2209680"/>
                    <a:ext cx="7925040" cy="3364200"/>
                  </a:xfrm>
                  <a:prstGeom prst="rect">
                    <a:avLst/>
                  </a:prstGeom>
                  <a:ln w="0">
                    <a:noFill/>
                  </a:ln>
                </p:spPr>
              </p:pic>
            </p:oleObj>
          </a:graphicData>
        </a:graphic>
      </p:graphicFrame>
      <p:sp>
        <p:nvSpPr>
          <p:cNvPr id="3" name="PlaceHolder 2"/>
          <p:cNvSpPr>
            <a:spLocks noGrp="1"/>
          </p:cNvSpPr>
          <p:nvPr>
            <p:ph type="sldNum" idx="2"/>
          </p:nvPr>
        </p:nvSpPr>
        <p:spPr/>
        <p:txBody>
          <a:bodyPr/>
          <a:p>
            <a:fld id="{C12978EF-7C9C-481B-B34B-8C1F144AA86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914400" y="1905120"/>
          <a:ext cx="6935760" cy="3981240"/>
        </p:xfrm>
        <a:graphic>
          <a:graphicData uri="http://schemas.openxmlformats.org/presentationml/2006/ole">
            <p:oleObj r:id="rId1" spid="">
              <p:embed/>
              <p:pic>
                <p:nvPicPr>
                  <p:cNvPr id="134" name="" descr=""/>
                  <p:cNvPicPr/>
                  <p:nvPr/>
                </p:nvPicPr>
                <p:blipFill>
                  <a:blip r:embed="rId2"/>
                  <a:stretch/>
                </p:blipFill>
                <p:spPr>
                  <a:xfrm>
                    <a:off x="914400" y="1905120"/>
                    <a:ext cx="6935760" cy="3981240"/>
                  </a:xfrm>
                  <a:prstGeom prst="rect">
                    <a:avLst/>
                  </a:prstGeom>
                  <a:ln w="0">
                    <a:noFill/>
                  </a:ln>
                </p:spPr>
              </p:pic>
            </p:oleObj>
          </a:graphicData>
        </a:graphic>
      </p:graphicFrame>
      <p:sp>
        <p:nvSpPr>
          <p:cNvPr id="3" name="PlaceHolder 2"/>
          <p:cNvSpPr>
            <a:spLocks noGrp="1"/>
          </p:cNvSpPr>
          <p:nvPr>
            <p:ph type="sldNum" idx="2"/>
          </p:nvPr>
        </p:nvSpPr>
        <p:spPr/>
        <p:txBody>
          <a:bodyPr/>
          <a:p>
            <a:fld id="{6C222A40-7EBD-46A6-B0A4-C60B7792BD8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DDF61FDC-BAEF-426B-850F-7D59424F7CB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940A0C3-B296-4ADE-81FA-0AFE84DD202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2-02T17:15:16Z</dcterms:modified>
  <cp:revision>145</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