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CC4E6-2B63-4FAD-A879-64F5291909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EA4B71D-3D1D-4FBC-8EFA-1738DFA06F0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029F943-FEA0-4D86-A54D-5609EC021CB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CDED82C-0B7C-4BAC-AA14-44E3CE3C3A0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C846224-7FD0-4C3A-945F-CE425F47E5B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0FD0357-D514-41D5-B58D-33F6E3F5E1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C69EB6-B24E-4E50-B000-46D87B60DB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A77A32-1C48-4956-9F70-E883673FDC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D6E73D-2DA5-4FE7-9C61-5B6A84229C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069408-C2F9-4B61-9149-AD4F90168A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373573-FD58-49ED-B7A6-3CBB532A52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AA4B80-1732-4218-B8EA-CBFD6AF224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F216CC8-1202-434A-B2D0-64CA7B0833D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83B793-F13D-47C4-B0C1-9F5F8C7450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975336-6AE7-4876-A520-855235AB69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4E6D99-E36B-4982-B7B5-291F223C35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E073F9-98E7-41A6-B57D-10035DD68D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296DA9-B361-4024-986F-2C7D49B575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37493D9-1450-4D32-B3FD-5E1E63C5876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E289090-57DC-4FA3-899A-7A71DC7674F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CC22D72-AD01-4FC8-B432-F26BA16BA71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3C6BE43-F845-4C59-AE52-BFB4FB71A9F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F9CCEDF-2E24-4572-AAD1-3ECE8C71B7E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B9A4EDD-2547-45E2-9CDA-54FE2197A06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7BDE972-88D2-4FAF-93D2-7827F33BFD6D}"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3A545-FDC1-4D56-947B-BE23DEA8B63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C6199-BF44-4386-9595-14475DC3D0E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bugzilla.qos.ch/" TargetMode="External"/><Relationship Id="rId6" Type="http://schemas.openxmlformats.org/officeDocument/2006/relationships/hyperlink" Target="http://bugzill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configuratio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3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configuration&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1920" y="1447560"/>
            <a:ext cx="85345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configuratio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ctiveFileName&gt;access.log"&lt;/ActiveFileNam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ccess.</a:t>
            </a:r>
            <a:r>
              <a:rPr b="1" lang="en-US" sz="1800" spc="-1" strike="noStrike">
                <a:solidFill>
                  <a:srgbClr val="000000"/>
                </a:solidFill>
                <a:latin typeface="Courier New"/>
              </a:rPr>
              <a:t>%d</a:t>
            </a:r>
            <a:r>
              <a:rPr b="0" lang="en-US" sz="1800" spc="-1" strike="noStrike">
                <a:solidFill>
                  <a:srgbClr val="000000"/>
                </a:solidFill>
                <a:latin typeface="Courier New"/>
              </a:rPr>
              <a:t>.log.</a:t>
            </a:r>
            <a:r>
              <a:rPr b="1" lang="en-US" sz="1800" spc="-1" strike="noStrike">
                <a:solidFill>
                  <a:srgbClr val="000000"/>
                </a:solidFill>
                <a:latin typeface="Courier New"/>
              </a:rPr>
              <a:t>zip</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ref ref="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configuration&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tead of</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7200" y="1676160"/>
            <a:ext cx="8229600" cy="472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bugzill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6"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28" name=""/>
          <p:cNvGraphicFramePr/>
          <p:nvPr/>
        </p:nvGraphicFramePr>
        <p:xfrm>
          <a:off x="838080" y="2209680"/>
          <a:ext cx="7925040" cy="3364200"/>
        </p:xfrm>
        <a:graphic>
          <a:graphicData uri="http://schemas.openxmlformats.org/presentationml/2006/ole">
            <p:oleObj r:id="rId1" spid="">
              <p:embed/>
              <p:pic>
                <p:nvPicPr>
                  <p:cNvPr id="129" name="" descr=""/>
                  <p:cNvPicPr/>
                  <p:nvPr/>
                </p:nvPicPr>
                <p:blipFill>
                  <a:blip r:embed="rId2"/>
                  <a:stretch/>
                </p:blipFill>
                <p:spPr>
                  <a:xfrm>
                    <a:off x="838080" y="2209680"/>
                    <a:ext cx="7925040" cy="3364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1" name=""/>
          <p:cNvGraphicFramePr/>
          <p:nvPr/>
        </p:nvGraphicFramePr>
        <p:xfrm>
          <a:off x="914400" y="1905120"/>
          <a:ext cx="6935760" cy="3981240"/>
        </p:xfrm>
        <a:graphic>
          <a:graphicData uri="http://schemas.openxmlformats.org/presentationml/2006/ole">
            <p:oleObj r:id="rId1" spid="">
              <p:embed/>
              <p:pic>
                <p:nvPicPr>
                  <p:cNvPr id="132" name="" descr=""/>
                  <p:cNvPicPr/>
                  <p:nvPr/>
                </p:nvPicPr>
                <p:blipFill>
                  <a:blip r:embed="rId2"/>
                  <a:stretch/>
                </p:blipFill>
                <p:spPr>
                  <a:xfrm>
                    <a:off x="914400" y="1905120"/>
                    <a:ext cx="6935760" cy="3981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4" name=""/>
          <p:cNvGraphicFramePr/>
          <p:nvPr/>
        </p:nvGraphicFramePr>
        <p:xfrm>
          <a:off x="457200" y="2176560"/>
          <a:ext cx="8229600" cy="3494160"/>
        </p:xfrm>
        <a:graphic>
          <a:graphicData uri="http://schemas.openxmlformats.org/presentationml/2006/ole">
            <p:oleObj r:id="rId1" spid="">
              <p:embed/>
              <p:pic>
                <p:nvPicPr>
                  <p:cNvPr id="135" name="" descr=""/>
                  <p:cNvPicPr/>
                  <p:nvPr/>
                </p:nvPicPr>
                <p:blipFill>
                  <a:blip r:embed="rId2"/>
                  <a:stretch/>
                </p:blipFill>
                <p:spPr>
                  <a:xfrm>
                    <a:off x="457200" y="2176560"/>
                    <a:ext cx="8229600" cy="3494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1-29T21:42:36Z</dcterms:modified>
  <cp:revision>135</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